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BACB-BEAE-4217-ABFF-1579561D92B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A5FE02CA-5BCE-484E-BC23-86AB707F7C4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8:06Z</dcterms:modified>
  <cp:revision>4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7436221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7 + Data Catalog</vt:lpwstr>
  </property>
  <property fmtid="{D5CDD505-2E9C-101B-9397-08002B2CF9AE}" pid="6" name="_ReviewingToolsShownOnce">
    <vt:lpwstr/>
  </property>
</Properties>
</file>