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018E7-AADB-46F8-BA51-5B11CBA83DC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8BE8C491-AB7A-40CB-9899-8B599D9FEA7B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17:55:35Z</dcterms:modified>
  <cp:revision>432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21347821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6</vt:lpwstr>
  </property>
  <property fmtid="{D5CDD505-2E9C-101B-9397-08002B2CF9AE}" pid="6" name="_ReviewingToolsShownOnce">
    <vt:lpwstr/>
  </property>
</Properties>
</file>