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216D-9446-4F60-9061-80A580BBF8A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4, Flux Site #3 – Sage + Grass site, DOY 130 to 180, 2002.  Soil temperature data measured by CS107 prob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7436403A-5B8C-49F8-B90A-746CC2EE6624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1:11Z</dcterms:modified>
  <cp:revision>43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89149716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4</vt:lpwstr>
  </property>
  <property fmtid="{D5CDD505-2E9C-101B-9397-08002B2CF9AE}" pid="6" name="_ReviewingToolsShownOnce">
    <vt:lpwstr/>
  </property>
</Properties>
</file>