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2793-D17A-4B8D-A656-46086A2CBC6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AEBC9F46-DB7C-4E0A-ABCD-9F0E9EB77829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7:55:35Z</dcterms:modified>
  <cp:revision>4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2134782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6</vt:lpwstr>
  </property>
  <property fmtid="{D5CDD505-2E9C-101B-9397-08002B2CF9AE}" pid="6" name="_ReviewingToolsShownOnce">
    <vt:lpwstr/>
  </property>
</Properties>
</file>