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7034213" cy="9194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7034400" cy="919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97044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93400" y="679320"/>
            <a:ext cx="4635720" cy="347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move the slide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97044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C2B76-74AF-4D48-90F5-BEC16EB9A093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il Profile #4, Flux Site #3 – Sage + Grass site, DOY 130 to 180, 2002.  Soil temperature data measured by CS107 probe.  (From R. H. Cuenca, Hydrologic Science Team, Oregon State Universit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49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49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685800" y="457200"/>
            <a:ext cx="7772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 Black"/>
              </a:rPr>
              <a:t>Profile Soil Moisture Content and Tempera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863640"/>
            <a:ext cx="8724960" cy="633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3126600" y="6468480"/>
            <a:ext cx="2872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ichard H. Cuenca  p.</a:t>
            </a:r>
            <a:fld id="{7EF5D457-D03C-46A9-B894-6F2F04C2BA45}" type="slidenum"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IHOP -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7696080" y="6377040"/>
            <a:ext cx="1447920" cy="480960"/>
            <a:chOff x="7696080" y="6377040"/>
            <a:chExt cx="1447920" cy="480960"/>
          </a:xfrm>
        </p:grpSpPr>
        <p:sp>
          <p:nvSpPr>
            <p:cNvPr id="5" name=""/>
            <p:cNvSpPr/>
            <p:nvPr/>
          </p:nvSpPr>
          <p:spPr>
            <a:xfrm>
              <a:off x="8001000" y="6453000"/>
              <a:ext cx="114300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UNIVERSIT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COLLEGE COR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" name=""/>
            <p:cNvGraphicFramePr/>
            <p:nvPr/>
          </p:nvGraphicFramePr>
          <p:xfrm>
            <a:off x="7696080" y="6377040"/>
            <a:ext cx="384120" cy="480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696080" y="6377040"/>
                      <a:ext cx="384120" cy="480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8" name="" descr=""/>
          <p:cNvPicPr/>
          <p:nvPr/>
        </p:nvPicPr>
        <p:blipFill>
          <a:blip r:embed="rId5"/>
          <a:srcRect l="0" t="0" r="0" b="7049"/>
          <a:stretch/>
        </p:blipFill>
        <p:spPr>
          <a:xfrm>
            <a:off x="0" y="6373800"/>
            <a:ext cx="1535040" cy="4842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edit the title text format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0T22:18:19Z</dcterms:created>
  <dc:creator>er</dc:creator>
  <dc:description/>
  <dc:language>en-US</dc:language>
  <cp:lastModifiedBy>lemone</cp:lastModifiedBy>
  <cp:lastPrinted>2003-02-03T20:51:18Z</cp:lastPrinted>
  <dcterms:modified xsi:type="dcterms:W3CDTF">2005-09-16T16:41:11Z</dcterms:modified>
  <cp:revision>436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889149716</vt:r8>
  </property>
  <property fmtid="{D5CDD505-2E9C-101B-9397-08002B2CF9AE}" pid="3" name="_AuthorEmail">
    <vt:lpwstr>cuenca@engr.orst.edu</vt:lpwstr>
  </property>
  <property fmtid="{D5CDD505-2E9C-101B-9397-08002B2CF9AE}" pid="4" name="_AuthorEmailDisplayName">
    <vt:lpwstr>Richard H. Cuenca</vt:lpwstr>
  </property>
  <property fmtid="{D5CDD505-2E9C-101B-9397-08002B2CF9AE}" pid="5" name="_EmailSubject">
    <vt:lpwstr>Soils Data - Soil Profile 4</vt:lpwstr>
  </property>
  <property fmtid="{D5CDD505-2E9C-101B-9397-08002B2CF9AE}" pid="6" name="_ReviewingToolsShownOnce">
    <vt:lpwstr/>
  </property>
</Properties>
</file>