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0B7E-19C7-47BD-8EF1-4271D24BAF8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CEF99A92-BD1E-4A51-A4DC-A49EE57D8D5D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00:15:22Z</dcterms:modified>
  <cp:revision>42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77449781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2</vt:lpwstr>
  </property>
  <property fmtid="{D5CDD505-2E9C-101B-9397-08002B2CF9AE}" pid="6" name="_ReviewingToolsShownOnce">
    <vt:lpwstr/>
  </property>
</Properties>
</file>