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4FE6-BE1A-450F-8E46-E502BF8C9ED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346FF874-5768-408D-A1BC-D58B79A0E5B3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7:24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7903498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3 - Resend of PowerPoint File</vt:lpwstr>
  </property>
  <property fmtid="{D5CDD505-2E9C-101B-9397-08002B2CF9AE}" pid="6" name="_ReviewingToolsShownOnce">
    <vt:lpwstr/>
  </property>
</Properties>
</file>