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D47B-C5CA-4C6B-B7BD-6D6D440B0D5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1D3775F2-C0B1-4FE3-979C-0BE1719CC8A0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7:24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7903498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3 - Resend of PowerPoint File</vt:lpwstr>
  </property>
  <property fmtid="{D5CDD505-2E9C-101B-9397-08002B2CF9AE}" pid="6" name="_ReviewingToolsShownOnce">
    <vt:lpwstr/>
  </property>
</Properties>
</file>