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F38A-B8F5-4A90-B48C-B4ADC1BFD32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8CAB7697-2FAF-479D-A7A4-F713F67C7D71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8:40Z</dcterms:modified>
  <cp:revision>45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2 - Flux Site 5</vt:lpwstr>
  </property>
  <property fmtid="{D5CDD505-2E9C-101B-9397-08002B2CF9AE}" pid="6" name="_ReviewingToolsShownOnce">
    <vt:lpwstr/>
  </property>
</Properties>
</file>