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CB45-2672-4AA9-B9F6-AF9FE722F72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D4F3F2B2-A3C2-4D86-8424-1915B82E2FC9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6:19Z</dcterms:modified>
  <cp:revision>44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66506422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9 - Flux Site 9</vt:lpwstr>
  </property>
  <property fmtid="{D5CDD505-2E9C-101B-9397-08002B2CF9AE}" pid="6" name="_ReviewingToolsShownOnce">
    <vt:lpwstr/>
  </property>
</Properties>
</file>