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46CF-545F-4A5F-B48D-0E20A4EEBEF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EFEF651C-6513-4C59-BAC3-8965468BEC6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5:01Z</dcterms:modified>
  <cp:revision>4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672798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8 - Flux Site 9</vt:lpwstr>
  </property>
  <property fmtid="{D5CDD505-2E9C-101B-9397-08002B2CF9AE}" pid="6" name="_ReviewingToolsShownOnce">
    <vt:lpwstr/>
  </property>
</Properties>
</file>