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D169-1796-4488-BEAF-89B90F8E3C5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Profile #8, Flux Site #9 – Grass site, DOY 130 to 180, 2002.  Soil temperature data measured by CS107 probe.  (From R. H. Cuenca, Hydrologic Science Team, Oregon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Profile #8, Flux Site #9 – Grass site, DOY 130 to 180, 2002.  Precipitation data measured by TE525 tipping bucket rain guage.  (From R. H. Cuenca, Hydrologic Science Team, Oregon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367658CD-0159-4DA0-BD9E-1D7987114DCA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6:43:42Z</dcterms:modified>
  <cp:revision>43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55891103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5</vt:lpwstr>
  </property>
  <property fmtid="{D5CDD505-2E9C-101B-9397-08002B2CF9AE}" pid="6" name="_ReviewingToolsShownOnce">
    <vt:lpwstr/>
  </property>
</Properties>
</file>