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8FE1-49D0-4E17-ABD8-2D66899BD28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4, Flux Site #3 – Sage +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4A2B1EF6-097F-4B68-8B91-6F0CA92B0641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1:11Z</dcterms:modified>
  <cp:revision>43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89149716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4</vt:lpwstr>
  </property>
  <property fmtid="{D5CDD505-2E9C-101B-9397-08002B2CF9AE}" pid="6" name="_ReviewingToolsShownOnce">
    <vt:lpwstr/>
  </property>
</Properties>
</file>