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E204-690B-455F-8DEA-5557F30B7F8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87150A98-B7F5-47C5-A58B-15EC7D8EB61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7:55:35Z</dcterms:modified>
  <cp:revision>4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134782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6</vt:lpwstr>
  </property>
  <property fmtid="{D5CDD505-2E9C-101B-9397-08002B2CF9AE}" pid="6" name="_ReviewingToolsShownOnce">
    <vt:lpwstr/>
  </property>
</Properties>
</file>