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E352-8F9C-43E3-80E7-07244DDFFE3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537AF861-6C75-4339-9027-8A31EDBD12FE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10:42Z</dcterms:modified>
  <cp:revision>4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1869565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3 - Flux Site 9</vt:lpwstr>
  </property>
  <property fmtid="{D5CDD505-2E9C-101B-9397-08002B2CF9AE}" pid="6" name="_ReviewingToolsShownOnce">
    <vt:lpwstr/>
  </property>
</Properties>
</file>