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0A3A-B055-4859-9040-0B644B0DA12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D37681C2-BB1B-46ED-8DA9-80E91A8454C6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7:24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87903498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3 - Resend of PowerPoint File</vt:lpwstr>
  </property>
  <property fmtid="{D5CDD505-2E9C-101B-9397-08002B2CF9AE}" pid="6" name="_ReviewingToolsShownOnce">
    <vt:lpwstr/>
  </property>
</Properties>
</file>