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8FE9-A659-4916-9082-A2DFE84624F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500249CB-0AA3-42F3-A75F-4196238BA47D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5:46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3069584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0</vt:lpwstr>
  </property>
  <property fmtid="{D5CDD505-2E9C-101B-9397-08002B2CF9AE}" pid="6" name="_ReviewingToolsShownOnce">
    <vt:lpwstr/>
  </property>
</Properties>
</file>