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2CDC-8664-4B35-885A-DACA17F9B68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59BFE0DD-E743-47A4-BE1E-FE5393B57F4A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7:24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7903498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3 - Resend of PowerPoint File</vt:lpwstr>
  </property>
  <property fmtid="{D5CDD505-2E9C-101B-9397-08002B2CF9AE}" pid="6" name="_ReviewingToolsShownOnce">
    <vt:lpwstr/>
  </property>
</Properties>
</file>