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C1C8-9554-4C2E-BBEF-92A04CA508D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CE0242C-33FD-4B29-9269-166A520D008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5:46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3069584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0</vt:lpwstr>
  </property>
  <property fmtid="{D5CDD505-2E9C-101B-9397-08002B2CF9AE}" pid="6" name="_ReviewingToolsShownOnce">
    <vt:lpwstr/>
  </property>
</Properties>
</file>