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1ECB-12C7-4F34-B8B3-F671F2C33F1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2F507973-A915-4580-A84D-5636C1998238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6:19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9 - Flux Site 9</vt:lpwstr>
  </property>
  <property fmtid="{D5CDD505-2E9C-101B-9397-08002B2CF9AE}" pid="6" name="_ReviewingToolsShownOnce">
    <vt:lpwstr/>
  </property>
</Properties>
</file>