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9033A-B133-4B76-B8A0-9FE6FD8155D8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84134FD0-11F2-44C4-BE0E-C9009FAFDAD5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26T16:05:01Z</dcterms:modified>
  <cp:revision>44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406727989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 Profile 8 - Flux Site 9</vt:lpwstr>
  </property>
  <property fmtid="{D5CDD505-2E9C-101B-9397-08002B2CF9AE}" pid="6" name="_ReviewingToolsShownOnce">
    <vt:lpwstr/>
  </property>
</Properties>
</file>