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F3020-3313-4FD7-B03A-7D1BCDD071A8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8BCBA531-0768-411D-A43D-5A2AB7986F44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15T20:40:57Z</dcterms:modified>
  <cp:revision>425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044632623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s Data</vt:lpwstr>
  </property>
  <property fmtid="{D5CDD505-2E9C-101B-9397-08002B2CF9AE}" pid="6" name="_ReviewingToolsShownOnce">
    <vt:lpwstr/>
  </property>
</Properties>
</file>