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41F2-A026-47DF-85D1-56AD37E3109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CC6ABCDD-4E28-482F-A8EF-1AEE1A8ADBC2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6:19Z</dcterms:modified>
  <cp:revision>44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66506422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9 - Flux Site 9</vt:lpwstr>
  </property>
  <property fmtid="{D5CDD505-2E9C-101B-9397-08002B2CF9AE}" pid="6" name="_ReviewingToolsShownOnce">
    <vt:lpwstr/>
  </property>
</Properties>
</file>