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AF50-3578-4F7B-88B9-4F73B1153BA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4, Flux Site #3 – Sage +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6D667D2D-A376-4A8B-9C71-C7802B2A0563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1:11Z</dcterms:modified>
  <cp:revision>4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149716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4</vt:lpwstr>
  </property>
  <property fmtid="{D5CDD505-2E9C-101B-9397-08002B2CF9AE}" pid="6" name="_ReviewingToolsShownOnce">
    <vt:lpwstr/>
  </property>
</Properties>
</file>