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6A72-7953-4018-B008-8DEDD49B3D3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58D42A6F-8F47-4CC0-BB30-DB191062B06D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1:15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2</vt:lpwstr>
  </property>
  <property fmtid="{D5CDD505-2E9C-101B-9397-08002B2CF9AE}" pid="6" name="_ReviewingToolsShownOnce">
    <vt:lpwstr/>
  </property>
</Properties>
</file>