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4A81-EC5B-48A3-B961-6804394C3F2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16908D44-0DDF-4DED-A7E1-1C4E9B9E1D51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8:57Z</dcterms:modified>
  <cp:revision>44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8550129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1</vt:lpwstr>
  </property>
  <property fmtid="{D5CDD505-2E9C-101B-9397-08002B2CF9AE}" pid="6" name="_ReviewingToolsShownOnce">
    <vt:lpwstr/>
  </property>
</Properties>
</file>